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37C-2201-4437-91F6-52CAE5E9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EFD-ABCE-4635-BB87-E22F63DE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505-1755-4A2B-BEE4-B720D0C6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6CF-9E24-409B-A245-6B4FCEAF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7C2-7260-456F-8843-0C9599D6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AD2-0292-410F-B1ED-FF47DAB8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6689-96FC-49DC-9EED-C5390692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BA16-9113-48CF-81B5-C4CA5282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72D1-B2C2-4985-959B-5368D34D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AC4-54A9-4DCF-8ABC-DE69D968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760-6BA1-4FB7-B289-F23EA099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BFC-788F-4E7C-BB01-24CDD279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45A0-353A-418B-88C3-45E5BFEB7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ur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525780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4/15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97180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urtyard Project EARLY EARTHDA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440" y="121932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nergy Transformations Workshe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1:15:51Z</dcterms:created>
  <dc:creator>CCPS</dc:creator>
  <dc:description/>
  <dc:language>en-US</dc:language>
  <cp:lastModifiedBy>CCPS</cp:lastModifiedBy>
  <dcterms:modified xsi:type="dcterms:W3CDTF">2010-04-16T11:16:02Z</dcterms:modified>
  <cp:revision>1</cp:revision>
  <dc:subject/>
  <dc:title>Slide 1</dc:title>
</cp:coreProperties>
</file>